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9874250" cy="67246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874800" cy="672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27824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5592240" y="-360"/>
            <a:ext cx="428004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3255840" y="504360"/>
            <a:ext cx="3362400" cy="252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0" y="6386040"/>
            <a:ext cx="427824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5592240" y="6386040"/>
            <a:ext cx="428004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40B34-B4B2-4E4A-9C7B-9A1F733823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46F50-5CA2-4122-88C0-3EE67257D2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3455E-13D9-49F8-B6A9-C37EB632E0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C81BF-6A6F-478E-AF04-274DA2830A9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3255840" y="506520"/>
            <a:ext cx="3357720" cy="25178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1316160" y="3193560"/>
            <a:ext cx="7238880" cy="302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0AC96-7311-4766-B183-CB16E9916E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71F48-22DB-4DF7-A60B-87FD1F6694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83130-0CC6-42E1-8822-6E59A0CE1E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F6AB0-8B96-42BA-90B4-D06A7BE24E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CF986-BF1E-4065-B8AA-57855246DF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AB402-9B73-48DD-905F-A2FF438E57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FAB00-242D-48CC-A30C-EC2E90D7C8B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918CC-9B05-4770-B023-71EA45E073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A0EFC-0114-46D0-9833-2D85B25F8F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66C19-6920-4445-BA23-EE58A24B2D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C4009-476C-4593-8CCA-B5BEB252CE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1BA95-A136-4982-975D-0162A2C441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8E99A-EBBA-44DF-950A-3C1D8580BC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51E21-4D29-4C50-9008-425EB4C741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483C4-2A76-45AA-B833-35BF4CC4F0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3C60E-D3F6-43B7-B525-EDCEA2183B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B061B-5765-4E66-BCE7-1A898A5074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7600A-8493-4CFC-920F-E9BBF0A2ED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0AEFC-BD40-45E4-A414-65BDCCE0D6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FB786-36BC-4B89-9502-58C6A6BDDD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98C9A-FBBF-4BF5-AD61-927DF96FCF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0B476-50BE-41DC-BB04-0B7106F023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F095E-FCED-4546-9061-EE723E3E60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115A9-69F5-4067-A853-750E83AB62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231E5-8295-44F9-A6BE-82C4E92E51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CE927-5650-44C9-94E9-78E5CA434D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6E267-77BB-4BEE-AD3E-7BF0AA105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822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360" y="4322880"/>
            <a:ext cx="822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AE244-D48B-4FDA-BFCC-75357FBDA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540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8360" y="43228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5400" y="43228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0071A-75F6-4EE1-9C9F-4C7CE6511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50800" y="22762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3240" y="22762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8360" y="43228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50800" y="43228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3240" y="43228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66136-F9DA-4E4A-8139-EA80E9420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A4186-0E77-43F2-A92E-CD44CA6A3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F0F56-2546-4DAE-B869-CCCA68B67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40158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5400" y="2276280"/>
            <a:ext cx="40158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A2388-57D6-458A-9CDC-63F53C01A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35413-E030-44BD-A3F2-C34BC39BF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68360" y="1052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F67A7-BD0F-4884-AB70-686223372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5400" y="2276280"/>
            <a:ext cx="40158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360" y="43228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DBDA0-0DE1-443D-B4AF-628E72D2D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40158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540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5400" y="43228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406B6-9F59-48C6-A872-CD3950267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40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8360" y="4322880"/>
            <a:ext cx="822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2A62C-C1DD-4E48-BC79-9BE03A299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85760" indent="-217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19920" indent="-217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96382-FE8A-403C-B9EB-19E9DF3F960A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-36360" y="-27000"/>
            <a:ext cx="9180360" cy="1079640"/>
          </a:xfrm>
          <a:prstGeom prst="rect">
            <a:avLst/>
          </a:prstGeom>
          <a:solidFill>
            <a:srgbClr val="2f61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" name="Picture 4" descr=""/>
          <p:cNvPicPr/>
          <p:nvPr/>
        </p:nvPicPr>
        <p:blipFill>
          <a:blip r:embed="rId2"/>
          <a:stretch/>
        </p:blipFill>
        <p:spPr>
          <a:xfrm>
            <a:off x="-9360" y="-22320"/>
            <a:ext cx="1322280" cy="1079640"/>
          </a:xfrm>
          <a:prstGeom prst="rect">
            <a:avLst/>
          </a:prstGeom>
          <a:ln w="0">
            <a:noFill/>
          </a:ln>
        </p:spPr>
      </p:pic>
      <p:sp>
        <p:nvSpPr>
          <p:cNvPr id="7" name="TextBox 13"/>
          <p:cNvSpPr/>
          <p:nvPr/>
        </p:nvSpPr>
        <p:spPr>
          <a:xfrm>
            <a:off x="1258920" y="-33480"/>
            <a:ext cx="381780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 Narrow"/>
              </a:rPr>
              <a:t>iPROCEED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Calibri"/>
              </a:rPr>
              <a:t>Project on targeting crime proceeds on the Internet in South-eastern Europe and Turke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" name="Picture 8" descr="http://www.coe.int/documents/16695/995226/Funded+EU%2BCOE+-+Implemented+COE+dark+background.png/643b8f9d-517b-4fad-82f4-488bde2625b0?t=1375371137000?t=1375371137000"/>
          <p:cNvPicPr/>
          <p:nvPr/>
        </p:nvPicPr>
        <p:blipFill>
          <a:blip r:embed="rId3"/>
          <a:stretch/>
        </p:blipFill>
        <p:spPr>
          <a:xfrm>
            <a:off x="4876920" y="189000"/>
            <a:ext cx="4087800" cy="711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clker.com/clipart-10842.html" TargetMode="Externa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11"/>
          <p:cNvSpPr/>
          <p:nvPr/>
        </p:nvSpPr>
        <p:spPr>
          <a:xfrm>
            <a:off x="-36360" y="-27000"/>
            <a:ext cx="9180360" cy="1079640"/>
          </a:xfrm>
          <a:prstGeom prst="rect">
            <a:avLst/>
          </a:prstGeom>
          <a:solidFill>
            <a:srgbClr val="2f61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4" descr=""/>
          <p:cNvPicPr/>
          <p:nvPr/>
        </p:nvPicPr>
        <p:blipFill>
          <a:blip r:embed="rId1"/>
          <a:stretch/>
        </p:blipFill>
        <p:spPr>
          <a:xfrm>
            <a:off x="-9360" y="-22320"/>
            <a:ext cx="1322280" cy="1079640"/>
          </a:xfrm>
          <a:prstGeom prst="rect">
            <a:avLst/>
          </a:prstGeom>
          <a:ln w="0">
            <a:noFill/>
          </a:ln>
        </p:spPr>
      </p:pic>
      <p:sp>
        <p:nvSpPr>
          <p:cNvPr id="55" name="TextBox 13"/>
          <p:cNvSpPr/>
          <p:nvPr/>
        </p:nvSpPr>
        <p:spPr>
          <a:xfrm>
            <a:off x="1258920" y="-33480"/>
            <a:ext cx="381780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 Narrow"/>
              </a:rPr>
              <a:t>iPROCEED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Calibri"/>
              </a:rPr>
              <a:t>Project on targeting crime proceeds on the Internet in South-eastern Europe and Turke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Rectangle 14"/>
          <p:cNvSpPr/>
          <p:nvPr/>
        </p:nvSpPr>
        <p:spPr>
          <a:xfrm>
            <a:off x="0" y="6813720"/>
            <a:ext cx="9180360" cy="58680"/>
          </a:xfrm>
          <a:prstGeom prst="rect">
            <a:avLst/>
          </a:prstGeom>
          <a:gradFill rotWithShape="0">
            <a:gsLst>
              <a:gs pos="0">
                <a:srgbClr val="286196"/>
              </a:gs>
              <a:gs pos="100000">
                <a:srgbClr val="13355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Rectangle 15"/>
          <p:cNvSpPr/>
          <p:nvPr/>
        </p:nvSpPr>
        <p:spPr>
          <a:xfrm>
            <a:off x="-36360" y="6669000"/>
            <a:ext cx="9180360" cy="239760"/>
          </a:xfrm>
          <a:prstGeom prst="rect">
            <a:avLst/>
          </a:prstGeom>
          <a:gradFill rotWithShape="0">
            <a:gsLst>
              <a:gs pos="0">
                <a:srgbClr val="286196"/>
              </a:gs>
              <a:gs pos="100000">
                <a:srgbClr val="13355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8" descr="http://www.coe.int/documents/16695/995226/Funded+EU%2BCOE+-+Implemented+COE+dark+background.png/643b8f9d-517b-4fad-82f4-488bde2625b0?t=1375371137000?t=1375371137000"/>
          <p:cNvPicPr/>
          <p:nvPr/>
        </p:nvPicPr>
        <p:blipFill>
          <a:blip r:embed="rId2"/>
          <a:stretch/>
        </p:blipFill>
        <p:spPr>
          <a:xfrm>
            <a:off x="4876920" y="189000"/>
            <a:ext cx="4087800" cy="7110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dentifying Suspects on the Intern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ssion 1.1.4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se Study: Email Activ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Email is not sent directly from one person to another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Rather, a technique known as “store and forward” is used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Records of the storing and forwarding of a particular email message are associated with that message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Each person has an incoming and an outgoing mail server and email is sent and delivered as shown on the next slide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se Study: Email Activ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mail is not sent directly from one person to another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ther, a technique known as “store and forward” is used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ach person has an incoming and an outgoing mail server and email is sent and delivered as shown on the next slid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Line 2"/>
          <p:cNvSpPr/>
          <p:nvPr/>
        </p:nvSpPr>
        <p:spPr>
          <a:xfrm>
            <a:off x="6877080" y="4076640"/>
            <a:ext cx="574560" cy="0"/>
          </a:xfrm>
          <a:prstGeom prst="line">
            <a:avLst/>
          </a:prstGeom>
          <a:ln w="5724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Line 3"/>
          <p:cNvSpPr/>
          <p:nvPr/>
        </p:nvSpPr>
        <p:spPr>
          <a:xfrm flipV="1">
            <a:off x="1332000" y="4365360"/>
            <a:ext cx="934920" cy="863640"/>
          </a:xfrm>
          <a:prstGeom prst="line">
            <a:avLst/>
          </a:prstGeom>
          <a:ln w="5724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Line 4"/>
          <p:cNvSpPr/>
          <p:nvPr/>
        </p:nvSpPr>
        <p:spPr>
          <a:xfrm flipV="1">
            <a:off x="2700360" y="3141360"/>
            <a:ext cx="792000" cy="646200"/>
          </a:xfrm>
          <a:prstGeom prst="line">
            <a:avLst/>
          </a:prstGeom>
          <a:ln w="5724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Line 5"/>
          <p:cNvSpPr/>
          <p:nvPr/>
        </p:nvSpPr>
        <p:spPr>
          <a:xfrm>
            <a:off x="5219640" y="2924280"/>
            <a:ext cx="863640" cy="793800"/>
          </a:xfrm>
          <a:prstGeom prst="line">
            <a:avLst/>
          </a:prstGeom>
          <a:ln w="5724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Line 6"/>
          <p:cNvSpPr/>
          <p:nvPr/>
        </p:nvSpPr>
        <p:spPr>
          <a:xfrm>
            <a:off x="7885080" y="4365720"/>
            <a:ext cx="0" cy="647640"/>
          </a:xfrm>
          <a:prstGeom prst="line">
            <a:avLst/>
          </a:prstGeom>
          <a:ln w="5724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395280" y="3645000"/>
            <a:ext cx="1008000" cy="72072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  <a:ea typeface="Arial"/>
              </a:rPr>
              <a:t>POP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  <a:ea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Cloud"/>
          <p:cNvSpPr/>
          <p:nvPr/>
        </p:nvSpPr>
        <p:spPr>
          <a:xfrm>
            <a:off x="2916360" y="1197000"/>
            <a:ext cx="3168360" cy="212400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alibri"/>
                <a:ea typeface="Arial"/>
              </a:rPr>
              <a:t>Interne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computr2"/>
          <p:cNvSpPr/>
          <p:nvPr/>
        </p:nvSpPr>
        <p:spPr>
          <a:xfrm>
            <a:off x="539640" y="5013360"/>
            <a:ext cx="1800360" cy="1512720"/>
          </a:xfrm>
          <a:custGeom>
            <a:avLst/>
            <a:gdLst>
              <a:gd name="textAreaLeft" fmla="*/ 516240 w 1800360"/>
              <a:gd name="textAreaRight" fmla="*/ 1297440 w 1800360"/>
              <a:gd name="textAreaTop" fmla="*/ 133920 h 1512720"/>
              <a:gd name="textAreaBottom" fmla="*/ 682560 h 1512720"/>
            </a:gdLst>
            <a:ahLst/>
            <a:rect l="textAreaLeft" t="textAreaTop" r="textAreaRight" b="textAreaBottom"/>
            <a:pathLst>
              <a:path w="21600" h="21600">
                <a:moveTo>
                  <a:pt x="21022" y="20295"/>
                </a:moveTo>
                <a:lnTo>
                  <a:pt x="18828" y="18396"/>
                </a:lnTo>
                <a:lnTo>
                  <a:pt x="18828" y="13174"/>
                </a:lnTo>
                <a:lnTo>
                  <a:pt x="15478" y="13174"/>
                </a:lnTo>
                <a:lnTo>
                  <a:pt x="15478" y="11631"/>
                </a:lnTo>
                <a:lnTo>
                  <a:pt x="17326" y="11631"/>
                </a:lnTo>
                <a:lnTo>
                  <a:pt x="17326" y="11156"/>
                </a:lnTo>
                <a:lnTo>
                  <a:pt x="17326" y="0"/>
                </a:lnTo>
                <a:lnTo>
                  <a:pt x="10858" y="0"/>
                </a:lnTo>
                <a:lnTo>
                  <a:pt x="4274" y="0"/>
                </a:lnTo>
                <a:lnTo>
                  <a:pt x="4274" y="11037"/>
                </a:lnTo>
                <a:lnTo>
                  <a:pt x="4274" y="11631"/>
                </a:lnTo>
                <a:lnTo>
                  <a:pt x="6122" y="11631"/>
                </a:lnTo>
                <a:lnTo>
                  <a:pt x="6122" y="13174"/>
                </a:lnTo>
                <a:lnTo>
                  <a:pt x="2772" y="13174"/>
                </a:lnTo>
                <a:lnTo>
                  <a:pt x="2772" y="18514"/>
                </a:lnTo>
                <a:lnTo>
                  <a:pt x="693" y="20295"/>
                </a:lnTo>
                <a:lnTo>
                  <a:pt x="462" y="20413"/>
                </a:lnTo>
                <a:lnTo>
                  <a:pt x="231" y="20651"/>
                </a:lnTo>
                <a:lnTo>
                  <a:pt x="116" y="20888"/>
                </a:lnTo>
                <a:lnTo>
                  <a:pt x="0" y="21125"/>
                </a:lnTo>
                <a:lnTo>
                  <a:pt x="0" y="21244"/>
                </a:lnTo>
                <a:lnTo>
                  <a:pt x="116" y="21363"/>
                </a:lnTo>
                <a:lnTo>
                  <a:pt x="116" y="21481"/>
                </a:lnTo>
                <a:lnTo>
                  <a:pt x="231" y="21481"/>
                </a:lnTo>
                <a:lnTo>
                  <a:pt x="347" y="21600"/>
                </a:lnTo>
                <a:lnTo>
                  <a:pt x="578" y="21600"/>
                </a:lnTo>
                <a:lnTo>
                  <a:pt x="693" y="21600"/>
                </a:lnTo>
                <a:lnTo>
                  <a:pt x="10858" y="21600"/>
                </a:lnTo>
                <a:lnTo>
                  <a:pt x="20907" y="21600"/>
                </a:lnTo>
                <a:lnTo>
                  <a:pt x="21138" y="21600"/>
                </a:lnTo>
                <a:lnTo>
                  <a:pt x="21253" y="21600"/>
                </a:lnTo>
                <a:lnTo>
                  <a:pt x="21369" y="21481"/>
                </a:lnTo>
                <a:lnTo>
                  <a:pt x="21484" y="21481"/>
                </a:lnTo>
                <a:lnTo>
                  <a:pt x="21600" y="21363"/>
                </a:lnTo>
                <a:lnTo>
                  <a:pt x="21600" y="21244"/>
                </a:lnTo>
                <a:lnTo>
                  <a:pt x="21600" y="21125"/>
                </a:lnTo>
                <a:lnTo>
                  <a:pt x="21484" y="20888"/>
                </a:lnTo>
                <a:lnTo>
                  <a:pt x="21369" y="20651"/>
                </a:lnTo>
                <a:lnTo>
                  <a:pt x="21253" y="20413"/>
                </a:lnTo>
                <a:lnTo>
                  <a:pt x="21022" y="20295"/>
                </a:lnTo>
                <a:close/>
              </a:path>
              <a:path w="21600" h="21600">
                <a:moveTo>
                  <a:pt x="18019" y="18514"/>
                </a:moveTo>
                <a:lnTo>
                  <a:pt x="17326" y="17921"/>
                </a:lnTo>
                <a:lnTo>
                  <a:pt x="4389" y="17921"/>
                </a:lnTo>
                <a:lnTo>
                  <a:pt x="3696" y="18514"/>
                </a:lnTo>
                <a:lnTo>
                  <a:pt x="18019" y="18514"/>
                </a:lnTo>
                <a:close/>
              </a:path>
              <a:path w="21600" h="21600">
                <a:moveTo>
                  <a:pt x="19174" y="19701"/>
                </a:moveTo>
                <a:lnTo>
                  <a:pt x="18481" y="19108"/>
                </a:lnTo>
                <a:lnTo>
                  <a:pt x="3119" y="19108"/>
                </a:lnTo>
                <a:lnTo>
                  <a:pt x="2426" y="19701"/>
                </a:lnTo>
                <a:lnTo>
                  <a:pt x="19174" y="19701"/>
                </a:lnTo>
                <a:close/>
              </a:path>
              <a:path w="21600" h="21600">
                <a:moveTo>
                  <a:pt x="20560" y="20769"/>
                </a:moveTo>
                <a:lnTo>
                  <a:pt x="19867" y="20176"/>
                </a:lnTo>
                <a:lnTo>
                  <a:pt x="1848" y="20176"/>
                </a:lnTo>
                <a:lnTo>
                  <a:pt x="1155" y="20769"/>
                </a:lnTo>
                <a:lnTo>
                  <a:pt x="20560" y="20769"/>
                </a:lnTo>
                <a:close/>
              </a:path>
              <a:path w="21600" h="21600">
                <a:moveTo>
                  <a:pt x="18828" y="18396"/>
                </a:moveTo>
                <a:lnTo>
                  <a:pt x="17442" y="17209"/>
                </a:lnTo>
                <a:lnTo>
                  <a:pt x="4158" y="17209"/>
                </a:lnTo>
                <a:lnTo>
                  <a:pt x="2772" y="18514"/>
                </a:lnTo>
                <a:moveTo>
                  <a:pt x="13168" y="14123"/>
                </a:moveTo>
                <a:lnTo>
                  <a:pt x="13168" y="14716"/>
                </a:lnTo>
                <a:lnTo>
                  <a:pt x="17788" y="14716"/>
                </a:lnTo>
                <a:lnTo>
                  <a:pt x="17788" y="14123"/>
                </a:lnTo>
                <a:lnTo>
                  <a:pt x="13168" y="14123"/>
                </a:lnTo>
                <a:close/>
              </a:path>
              <a:path w="21600" h="21600">
                <a:moveTo>
                  <a:pt x="6122" y="1899"/>
                </a:moveTo>
                <a:lnTo>
                  <a:pt x="6122" y="9732"/>
                </a:lnTo>
                <a:lnTo>
                  <a:pt x="15478" y="9732"/>
                </a:lnTo>
                <a:lnTo>
                  <a:pt x="15478" y="1899"/>
                </a:lnTo>
                <a:lnTo>
                  <a:pt x="6122" y="1899"/>
                </a:lnTo>
                <a:moveTo>
                  <a:pt x="6122" y="11631"/>
                </a:moveTo>
                <a:lnTo>
                  <a:pt x="15478" y="11631"/>
                </a:lnTo>
                <a:lnTo>
                  <a:pt x="15478" y="13174"/>
                </a:lnTo>
                <a:lnTo>
                  <a:pt x="6122" y="13174"/>
                </a:lnTo>
                <a:lnTo>
                  <a:pt x="6122" y="11631"/>
                </a:lnTo>
                <a:close/>
              </a:path>
            </a:pathLst>
          </a:cu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computr2"/>
          <p:cNvSpPr/>
          <p:nvPr/>
        </p:nvSpPr>
        <p:spPr>
          <a:xfrm>
            <a:off x="6875640" y="5013360"/>
            <a:ext cx="1800000" cy="1511280"/>
          </a:xfrm>
          <a:custGeom>
            <a:avLst/>
            <a:gdLst>
              <a:gd name="textAreaLeft" fmla="*/ 516240 w 1800000"/>
              <a:gd name="textAreaRight" fmla="*/ 1297080 w 1800000"/>
              <a:gd name="textAreaTop" fmla="*/ 133560 h 1511280"/>
              <a:gd name="textAreaBottom" fmla="*/ 681840 h 1511280"/>
            </a:gdLst>
            <a:ahLst/>
            <a:rect l="textAreaLeft" t="textAreaTop" r="textAreaRight" b="textAreaBottom"/>
            <a:pathLst>
              <a:path w="21600" h="21600">
                <a:moveTo>
                  <a:pt x="21022" y="20295"/>
                </a:moveTo>
                <a:lnTo>
                  <a:pt x="18828" y="18396"/>
                </a:lnTo>
                <a:lnTo>
                  <a:pt x="18828" y="13174"/>
                </a:lnTo>
                <a:lnTo>
                  <a:pt x="15478" y="13174"/>
                </a:lnTo>
                <a:lnTo>
                  <a:pt x="15478" y="11631"/>
                </a:lnTo>
                <a:lnTo>
                  <a:pt x="17326" y="11631"/>
                </a:lnTo>
                <a:lnTo>
                  <a:pt x="17326" y="11156"/>
                </a:lnTo>
                <a:lnTo>
                  <a:pt x="17326" y="0"/>
                </a:lnTo>
                <a:lnTo>
                  <a:pt x="10858" y="0"/>
                </a:lnTo>
                <a:lnTo>
                  <a:pt x="4274" y="0"/>
                </a:lnTo>
                <a:lnTo>
                  <a:pt x="4274" y="11037"/>
                </a:lnTo>
                <a:lnTo>
                  <a:pt x="4274" y="11631"/>
                </a:lnTo>
                <a:lnTo>
                  <a:pt x="6122" y="11631"/>
                </a:lnTo>
                <a:lnTo>
                  <a:pt x="6122" y="13174"/>
                </a:lnTo>
                <a:lnTo>
                  <a:pt x="2772" y="13174"/>
                </a:lnTo>
                <a:lnTo>
                  <a:pt x="2772" y="18514"/>
                </a:lnTo>
                <a:lnTo>
                  <a:pt x="693" y="20295"/>
                </a:lnTo>
                <a:lnTo>
                  <a:pt x="462" y="20413"/>
                </a:lnTo>
                <a:lnTo>
                  <a:pt x="231" y="20651"/>
                </a:lnTo>
                <a:lnTo>
                  <a:pt x="116" y="20888"/>
                </a:lnTo>
                <a:lnTo>
                  <a:pt x="0" y="21125"/>
                </a:lnTo>
                <a:lnTo>
                  <a:pt x="0" y="21244"/>
                </a:lnTo>
                <a:lnTo>
                  <a:pt x="116" y="21363"/>
                </a:lnTo>
                <a:lnTo>
                  <a:pt x="116" y="21481"/>
                </a:lnTo>
                <a:lnTo>
                  <a:pt x="231" y="21481"/>
                </a:lnTo>
                <a:lnTo>
                  <a:pt x="347" y="21600"/>
                </a:lnTo>
                <a:lnTo>
                  <a:pt x="578" y="21600"/>
                </a:lnTo>
                <a:lnTo>
                  <a:pt x="693" y="21600"/>
                </a:lnTo>
                <a:lnTo>
                  <a:pt x="10858" y="21600"/>
                </a:lnTo>
                <a:lnTo>
                  <a:pt x="20907" y="21600"/>
                </a:lnTo>
                <a:lnTo>
                  <a:pt x="21138" y="21600"/>
                </a:lnTo>
                <a:lnTo>
                  <a:pt x="21253" y="21600"/>
                </a:lnTo>
                <a:lnTo>
                  <a:pt x="21369" y="21481"/>
                </a:lnTo>
                <a:lnTo>
                  <a:pt x="21484" y="21481"/>
                </a:lnTo>
                <a:lnTo>
                  <a:pt x="21600" y="21363"/>
                </a:lnTo>
                <a:lnTo>
                  <a:pt x="21600" y="21244"/>
                </a:lnTo>
                <a:lnTo>
                  <a:pt x="21600" y="21125"/>
                </a:lnTo>
                <a:lnTo>
                  <a:pt x="21484" y="20888"/>
                </a:lnTo>
                <a:lnTo>
                  <a:pt x="21369" y="20651"/>
                </a:lnTo>
                <a:lnTo>
                  <a:pt x="21253" y="20413"/>
                </a:lnTo>
                <a:lnTo>
                  <a:pt x="21022" y="20295"/>
                </a:lnTo>
                <a:close/>
              </a:path>
              <a:path w="21600" h="21600">
                <a:moveTo>
                  <a:pt x="18019" y="18514"/>
                </a:moveTo>
                <a:lnTo>
                  <a:pt x="17326" y="17921"/>
                </a:lnTo>
                <a:lnTo>
                  <a:pt x="4389" y="17921"/>
                </a:lnTo>
                <a:lnTo>
                  <a:pt x="3696" y="18514"/>
                </a:lnTo>
                <a:lnTo>
                  <a:pt x="18019" y="18514"/>
                </a:lnTo>
                <a:close/>
              </a:path>
              <a:path w="21600" h="21600">
                <a:moveTo>
                  <a:pt x="19174" y="19701"/>
                </a:moveTo>
                <a:lnTo>
                  <a:pt x="18481" y="19108"/>
                </a:lnTo>
                <a:lnTo>
                  <a:pt x="3119" y="19108"/>
                </a:lnTo>
                <a:lnTo>
                  <a:pt x="2426" y="19701"/>
                </a:lnTo>
                <a:lnTo>
                  <a:pt x="19174" y="19701"/>
                </a:lnTo>
                <a:close/>
              </a:path>
              <a:path w="21600" h="21600">
                <a:moveTo>
                  <a:pt x="20560" y="20769"/>
                </a:moveTo>
                <a:lnTo>
                  <a:pt x="19867" y="20176"/>
                </a:lnTo>
                <a:lnTo>
                  <a:pt x="1848" y="20176"/>
                </a:lnTo>
                <a:lnTo>
                  <a:pt x="1155" y="20769"/>
                </a:lnTo>
                <a:lnTo>
                  <a:pt x="20560" y="20769"/>
                </a:lnTo>
                <a:close/>
              </a:path>
              <a:path w="21600" h="21600">
                <a:moveTo>
                  <a:pt x="18828" y="18396"/>
                </a:moveTo>
                <a:lnTo>
                  <a:pt x="17442" y="17209"/>
                </a:lnTo>
                <a:lnTo>
                  <a:pt x="4158" y="17209"/>
                </a:lnTo>
                <a:lnTo>
                  <a:pt x="2772" y="18514"/>
                </a:lnTo>
                <a:moveTo>
                  <a:pt x="13168" y="14123"/>
                </a:moveTo>
                <a:lnTo>
                  <a:pt x="13168" y="14716"/>
                </a:lnTo>
                <a:lnTo>
                  <a:pt x="17788" y="14716"/>
                </a:lnTo>
                <a:lnTo>
                  <a:pt x="17788" y="14123"/>
                </a:lnTo>
                <a:lnTo>
                  <a:pt x="13168" y="14123"/>
                </a:lnTo>
                <a:close/>
              </a:path>
              <a:path w="21600" h="21600">
                <a:moveTo>
                  <a:pt x="6122" y="1899"/>
                </a:moveTo>
                <a:lnTo>
                  <a:pt x="6122" y="9732"/>
                </a:lnTo>
                <a:lnTo>
                  <a:pt x="15478" y="9732"/>
                </a:lnTo>
                <a:lnTo>
                  <a:pt x="15478" y="1899"/>
                </a:lnTo>
                <a:lnTo>
                  <a:pt x="6122" y="1899"/>
                </a:lnTo>
                <a:moveTo>
                  <a:pt x="6122" y="11631"/>
                </a:moveTo>
                <a:lnTo>
                  <a:pt x="15478" y="11631"/>
                </a:lnTo>
                <a:lnTo>
                  <a:pt x="15478" y="13174"/>
                </a:lnTo>
                <a:lnTo>
                  <a:pt x="6122" y="13174"/>
                </a:lnTo>
                <a:lnTo>
                  <a:pt x="6122" y="11631"/>
                </a:lnTo>
                <a:close/>
              </a:path>
            </a:pathLst>
          </a:cu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Rectangle 12"/>
          <p:cNvSpPr/>
          <p:nvPr/>
        </p:nvSpPr>
        <p:spPr>
          <a:xfrm>
            <a:off x="1835280" y="3645000"/>
            <a:ext cx="1008000" cy="72072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  <a:ea typeface="Arial"/>
              </a:rPr>
              <a:t>SMT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  <a:ea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Rectangle 13"/>
          <p:cNvSpPr/>
          <p:nvPr/>
        </p:nvSpPr>
        <p:spPr>
          <a:xfrm>
            <a:off x="7451640" y="3716280"/>
            <a:ext cx="1008000" cy="72072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  <a:ea typeface="Arial"/>
              </a:rPr>
              <a:t>POP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  <a:ea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Rectangle 14"/>
          <p:cNvSpPr/>
          <p:nvPr/>
        </p:nvSpPr>
        <p:spPr>
          <a:xfrm>
            <a:off x="6084720" y="3716280"/>
            <a:ext cx="1008360" cy="72072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  <a:ea typeface="Arial"/>
              </a:rPr>
              <a:t>SMT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  <a:ea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ext Box 15"/>
          <p:cNvSpPr/>
          <p:nvPr/>
        </p:nvSpPr>
        <p:spPr>
          <a:xfrm>
            <a:off x="2362320" y="4343400"/>
            <a:ext cx="1981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When Alice presses SEND her E-mail is moved from her computer to her Internet Service Providers outgoing mail serv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 Box 16"/>
          <p:cNvSpPr/>
          <p:nvPr/>
        </p:nvSpPr>
        <p:spPr>
          <a:xfrm>
            <a:off x="179280" y="2492280"/>
            <a:ext cx="280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Alice’s ISP then forwards the E-mail out onto the Intern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 Box 17"/>
          <p:cNvSpPr/>
          <p:nvPr/>
        </p:nvSpPr>
        <p:spPr>
          <a:xfrm>
            <a:off x="6781680" y="2492280"/>
            <a:ext cx="2274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The mail is forwarded to the incoming (POP3) mail server of Bob’s IS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Text Box 18"/>
          <p:cNvSpPr/>
          <p:nvPr/>
        </p:nvSpPr>
        <p:spPr>
          <a:xfrm>
            <a:off x="5486400" y="457200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The next time Bob connects to his ISP the E-mail is downloaded to his comput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Rectangle 19"/>
          <p:cNvSpPr/>
          <p:nvPr/>
        </p:nvSpPr>
        <p:spPr>
          <a:xfrm>
            <a:off x="1042920" y="5157720"/>
            <a:ext cx="792360" cy="576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ALI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Rectangle 20"/>
          <p:cNvSpPr/>
          <p:nvPr/>
        </p:nvSpPr>
        <p:spPr>
          <a:xfrm>
            <a:off x="7380360" y="5157720"/>
            <a:ext cx="792000" cy="576360"/>
          </a:xfrm>
          <a:prstGeom prst="rect">
            <a:avLst/>
          </a:prstGeom>
          <a:solidFill>
            <a:srgbClr val="c050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alibri"/>
              </a:rPr>
              <a:t>BOB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Slide Number Placeholder 20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476E2-2454-408C-9DE2-6315686BAB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extBox 1"/>
          <p:cNvSpPr/>
          <p:nvPr/>
        </p:nvSpPr>
        <p:spPr>
          <a:xfrm>
            <a:off x="8817120" y="4233960"/>
            <a:ext cx="18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se Study: Email Activ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 email consists of two par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eader: Contains information about who the message is from, who it is for, subject, date etc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4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d how it has been stored/forwarded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ody: The actual content of the email messag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 example email with headers is shown on the next slid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3"/>
          <p:cNvSpPr/>
          <p:nvPr/>
        </p:nvSpPr>
        <p:spPr>
          <a:xfrm>
            <a:off x="468360" y="1341360"/>
            <a:ext cx="8229600" cy="540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Microsoft Mail Internet Headers Version 2.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Received: from xproxy.gmail.com ([66.249.82.197]) by exchange1.trl.org with Microsoft SMTPSVC(6.0.3790.0); Tue, 27 Mar 2007 09:44:54 +010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Received: by xproxy.gmail.com with SMTP id h28so988094wx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for &lt;Jim.Stark@trl.org&gt;; Tue, 27 Mar 2007 00:44:31 -0800 (PST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DomainKey-Signature: a=rsa-sha1; q=dns; c=nofw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s=beta; d=gmail.com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h=received:message-id:date:from:to:subject:in-reply-to:mime-version:content-type:reference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b=RY8mK69lgiScvczLvTJmfvlXoZa1zUskwWsukAn3jlzblALGzxF/pzpDKyrEnIDyZrKp8VnthCyCgyHOfi7KCHhaseAXG4UAQO8zIbSFDxw6uVN0jUVYQx0a60pjkFBxmdzL/PCDEllSFEExVQB+m0WD/lcGQEgGmecYV1nRmy8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Received: by 10.70.100.14 with SMTP id x14mr6330299wxb; Tue, 27 Mar 2007 00:44:30 -0800 (PST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Received: by 10.70.122.16 with HTTP; Tue, 27 Mar 2007 00:44:30 -0800 (PST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Message-ID: &lt;95ecf0550603280044n7a18048fs8e37cf2c2ea3a3d8@mail.gmail.com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Date: Tue, 27 Mar 2007 09:44:30 +010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From: "Jim Stark" &lt;jc.stark@gmail.com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To: "Jim Stark" &lt;Jim.Stark@trl.org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Subject: Re: te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In-Reply-To: &lt;42675D880C511048AE555539A210615627A281@exchange1.trl.org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MIME-Version: 1.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Content-Type: multipart/alternative;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boundary="----=_Part_21605_28805312.1143535470923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References: &lt;42675D880C511048AE555539A210615627A281@exchange1.trl.org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Return-Path: jc.stark@gmail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X-OriginalArrivalTime: 27 Mar 2007 08:44:54.0322 (UTC) FILETIME=[E283E920:01C65243]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ultinational Service Provider Recor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3200" spc="-1" strike="noStrike">
                <a:solidFill>
                  <a:srgbClr val="000000"/>
                </a:solidFill>
                <a:latin typeface="Calibri"/>
              </a:rPr>
              <a:t>Multinational Service Providers (Facebook, Google. Etc.) might be able to tell you which IP address was used by a subscriber at a particular tim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3200" spc="-1" strike="noStrike">
                <a:solidFill>
                  <a:srgbClr val="000000"/>
                </a:solidFill>
                <a:latin typeface="Calibri"/>
              </a:rPr>
              <a:t>Need to know the ID (e.g. Facebook user ID) of the suspec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3200" spc="-1" strike="noStrike">
                <a:solidFill>
                  <a:srgbClr val="000000"/>
                </a:solidFill>
                <a:latin typeface="Calibri"/>
              </a:rPr>
              <a:t>International cooperation typically requir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vert Investigation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3200" spc="-1" strike="noStrike">
                <a:solidFill>
                  <a:srgbClr val="000000"/>
                </a:solidFill>
                <a:latin typeface="Calibri"/>
              </a:rPr>
              <a:t>If you already have a suspect, covert investigation techniques (e.g. Wiretapping) can be used to identify the IP address(es) in use by the suspec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ASSOCIATING IP Address TO Real world IDENTIT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22160" y="29304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Demonstration: 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What is MY IP ADDRESS?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y not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P address might allow identification of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ternet Service Provid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eoloc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ssion Objecti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fresher: Know what an IP address i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scribe how you can find a suspect IP addres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scribe how you can associate a suspect IP address with a real pers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ist three technical challenges to identification of suspects on the Interne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SP Recor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3200" spc="-1" strike="noStrike">
                <a:solidFill>
                  <a:srgbClr val="000000"/>
                </a:solidFill>
                <a:latin typeface="Calibri"/>
              </a:rPr>
              <a:t>Internet Service Providers will typically keep records of which subscriber was using a particular IP address at a particular tim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3200" spc="-1" strike="noStrike">
                <a:solidFill>
                  <a:srgbClr val="000000"/>
                </a:solidFill>
                <a:latin typeface="Calibri"/>
              </a:rPr>
              <a:t>How long these records are retained for will depend on national legisl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3200" spc="-1" strike="noStrike">
                <a:solidFill>
                  <a:srgbClr val="000000"/>
                </a:solidFill>
                <a:latin typeface="Calibri"/>
              </a:rPr>
              <a:t>How to get access to these records will depend on national legisl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SP Records: Ques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3200" spc="-1" strike="noStrike">
                <a:solidFill>
                  <a:srgbClr val="000000"/>
                </a:solidFill>
                <a:latin typeface="Calibri"/>
              </a:rPr>
              <a:t>What is involved in getting access to ISP subscriber data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3200" spc="-1" strike="noStrike">
                <a:solidFill>
                  <a:srgbClr val="000000"/>
                </a:solidFill>
                <a:latin typeface="Calibri"/>
              </a:rPr>
              <a:t>How do you know which ISP to request data from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eolocation: Ques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3200" spc="-1" strike="noStrike">
                <a:solidFill>
                  <a:srgbClr val="000000"/>
                </a:solidFill>
                <a:latin typeface="Calibri"/>
              </a:rPr>
              <a:t>Where do you think the geolocation data comes from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3200" spc="-1" strike="noStrike">
                <a:solidFill>
                  <a:srgbClr val="000000"/>
                </a:solidFill>
                <a:latin typeface="Calibri"/>
              </a:rPr>
              <a:t>Absolutely no guarantees of reliability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y not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so, not always traceable to a specific perso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atic vs. Dynamic IP addres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twork Address Translation (NA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time of the activity is crucial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rporation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3200" spc="-1" strike="noStrike">
                <a:solidFill>
                  <a:srgbClr val="000000"/>
                </a:solidFill>
                <a:latin typeface="Calibri"/>
              </a:rPr>
              <a:t>Corporations using Network Address Translation (NAT) may have the records to be able to associate suspect activity with a specific internal IP addres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3200" spc="-1" strike="noStrike">
                <a:solidFill>
                  <a:srgbClr val="000000"/>
                </a:solidFill>
                <a:latin typeface="Calibri"/>
              </a:rPr>
              <a:t>How engagement with the company takes place will depend on national legisl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3200" spc="-1" strike="noStrike">
                <a:solidFill>
                  <a:srgbClr val="000000"/>
                </a:solidFill>
                <a:latin typeface="Calibri"/>
              </a:rPr>
              <a:t>Records seldom exis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ven if you can find the computer</a:t>
            </a:r>
            <a:r>
              <a:rPr b="0" lang="is-IS" sz="44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 was using the compu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mote control of the compu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iFi access poin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of VPN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Some MORE Technical Challeng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alleng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3200" spc="-1" strike="noStrike">
                <a:solidFill>
                  <a:srgbClr val="000000"/>
                </a:solidFill>
                <a:latin typeface="Calibri"/>
              </a:rPr>
              <a:t>Intentional and unintentional, legitimate and illegitimate obfuscation may take plac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3200" spc="-1" strike="noStrike">
                <a:solidFill>
                  <a:srgbClr val="000000"/>
                </a:solidFill>
                <a:latin typeface="Calibri"/>
              </a:rPr>
              <a:t>Some example will be discuss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nonymising Servi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3000" spc="-1" strike="noStrike">
                <a:solidFill>
                  <a:srgbClr val="000000"/>
                </a:solidFill>
                <a:latin typeface="Calibri"/>
              </a:rPr>
              <a:t>Both paid and free services are available to conceal online activity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3000" spc="-1" strike="noStrike">
                <a:solidFill>
                  <a:srgbClr val="000000"/>
                </a:solidFill>
                <a:latin typeface="Calibri"/>
              </a:rPr>
              <a:t>Anonymising web proxies specifically conceal the source of web browsing activity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3000" spc="-1" strike="noStrike">
                <a:solidFill>
                  <a:srgbClr val="000000"/>
                </a:solidFill>
                <a:latin typeface="Calibri"/>
              </a:rPr>
              <a:t>Anonymising email providers specifically conceal the sender of email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3000" spc="-1" strike="noStrike">
                <a:solidFill>
                  <a:srgbClr val="000000"/>
                </a:solidFill>
                <a:latin typeface="Calibri"/>
              </a:rPr>
              <a:t>Anonymising IP proxies conceal all the source of all Internet traffic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600" spc="-1" strike="noStrike">
                <a:solidFill>
                  <a:srgbClr val="000000"/>
                </a:solidFill>
                <a:latin typeface="Calibri"/>
              </a:rPr>
              <a:t>Example: TO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68360" y="2276280"/>
            <a:ext cx="8229600" cy="39178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5" descr="scl8"/>
          <p:cNvPicPr/>
          <p:nvPr/>
        </p:nvPicPr>
        <p:blipFill>
          <a:blip r:embed="rId2"/>
          <a:stretch/>
        </p:blipFill>
        <p:spPr>
          <a:xfrm>
            <a:off x="1042920" y="1197000"/>
            <a:ext cx="704376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P Address (version 4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P address consists of four numbers between 0 and 255, separated by full-stops/period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.g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.2.3.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00.4.0.188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re is also a newer form of IP addresses (version 6) which will not be discussed her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ncryp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3200" spc="-1" strike="noStrike">
                <a:solidFill>
                  <a:srgbClr val="000000"/>
                </a:solidFill>
                <a:latin typeface="Calibri"/>
              </a:rPr>
              <a:t>It is possible that communication might be encrypted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3200" spc="-1" strike="noStrike">
                <a:solidFill>
                  <a:srgbClr val="000000"/>
                </a:solidFill>
                <a:latin typeface="Calibri"/>
              </a:rPr>
              <a:t>Either the content of the entire communication might be encrypt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rrier Grade N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3200" spc="-1" strike="noStrike">
                <a:solidFill>
                  <a:srgbClr val="000000"/>
                </a:solidFill>
                <a:latin typeface="Calibri"/>
              </a:rPr>
              <a:t>A technique for associating a very large number of users with a single IP addres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3200" spc="-1" strike="noStrike">
                <a:solidFill>
                  <a:srgbClr val="000000"/>
                </a:solidFill>
                <a:latin typeface="Calibri"/>
              </a:rPr>
              <a:t>Commonly used for Internet connectivity on mobile phone network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3000" spc="-1" strike="noStrike">
                <a:solidFill>
                  <a:srgbClr val="000000"/>
                </a:solidFill>
                <a:latin typeface="Calibri"/>
              </a:rPr>
              <a:t>IP addresses are a necessary but not sufficient identifier of a person’s online activity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3000" spc="-1" strike="noStrike">
                <a:solidFill>
                  <a:srgbClr val="000000"/>
                </a:solidFill>
                <a:latin typeface="Calibri"/>
              </a:rPr>
              <a:t>Associating an IP address with a real person is extremely difficult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3000" spc="-1" strike="noStrike">
                <a:solidFill>
                  <a:srgbClr val="000000"/>
                </a:solidFill>
                <a:latin typeface="Calibri"/>
              </a:rPr>
              <a:t>Technologies are available to make tracing a person online even more difficult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3000" spc="-1" strike="noStrike">
                <a:solidFill>
                  <a:srgbClr val="000000"/>
                </a:solidFill>
                <a:latin typeface="Calibri"/>
              </a:rPr>
              <a:t>Wherever possible other sources of evidence should be used to support the IP address evidenc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6" descr="Question Mark Clip Ar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143160" y="1357200"/>
            <a:ext cx="2857680" cy="2857680"/>
          </a:xfrm>
          <a:prstGeom prst="rect">
            <a:avLst/>
          </a:prstGeom>
          <a:ln w="0">
            <a:noFill/>
          </a:ln>
        </p:spPr>
      </p:pic>
      <p:sp>
        <p:nvSpPr>
          <p:cNvPr id="141" name="TextBox 4"/>
          <p:cNvSpPr/>
          <p:nvPr/>
        </p:nvSpPr>
        <p:spPr>
          <a:xfrm>
            <a:off x="3087360" y="4500720"/>
            <a:ext cx="2983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alibri"/>
              </a:rPr>
              <a:t>Question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P Address (version 4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me IP addresses are not valid on the Internet, only for private (internal) us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0.x.x.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92.168.x.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72.16.x.x-172.31.x.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Identifying Suspect IP Addres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nline Activ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user’s online activity might generate record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se records might contain the IP address of the user’s communic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can be an important piece of information for identifying a suspec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Necessary but not sufficient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se Study: Web Browsing Activ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eb browsing activity involves a user sending requests to a web server and the web server sending responses back to the user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format of the requests and responses is described using a protocol known as Hypertext Transfer Protocol (HTTP)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By default, a web server will log all incoming requests, including the IP address from which the request was received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se Study: Web Browsing Activ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68360" y="2276640"/>
            <a:ext cx="8229600" cy="459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192.220.98.177 - - [23/Sep/2006:21:09:27 -0400] "GET / HTTP/1.0" 206 1729 "-" "Servmon::Monitor::apache/1.03"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Tahoma"/>
              </a:rPr>
              <a:t>216.128.130.126 - - [23/Sep/2006:21:30:02 -0400] "GET /pgp/ HTTP/1.0" 200 1871 "http://dir.yahoo.com/Computers_and_Internet/Security_and_Encryption/PGP___Pretty_Good_Privacy/" "Mozilla/4.0 (compatible; MSIE 6.0 [en] Win NT 5.1; U)"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66.196.73.20 - - [23/Sep/2006:21:33:35 -0400] "GET /pgp/pgpdoc2/pgpdoc2_65.html HTTP/1.0" 200 7185 "-" "Mozilla/5.0 (Slurp/cat; slurp@inktomi.com; http://www.inktomi.com/slurp.html)"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63.229.162.177 - - [23/Sep/2006:21:34:31 -0400] "GET /stephen/singers/ HTTP/1.1" 200 1936 "http://www.dosado.com/callers/default.htm " "Mozilla/4.0 (compatible; MSIE 5.5; Windows 98; Win 9x 4.90)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138.162.0.41 - - [23/Sep/2006:21:36:27 -0400] "GET /gallery/Colorado02?&amp;page=2 HTTP/1.0" 200 19649 "http://www.google.com/search?q=st+malo+chapel+colorado&amp;hl=en&amp;lr=&amp;ie=UTF-8&amp;start=20&amp;sa=N" "Mozilla/4.76 [en] (Windows NT 5.0; U)"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12.255.212.29 - - [23/Sep/2006:21:51:42 -0400] "GET /cgi- bin/formmail.cgi?recipient=lharleyren49@aol.com&amp;subject= http://www.gildea.com/cgi-bin/formmail.cgi&amp;body=48462427&amp;email=uqizakzbi@aol.com HTTP/1.1" 404 291 "-" "Mozilla/4.0 (compatible; MSIE 5.0; Windows 98; DigExt)"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64.156.198.78 - - [23/Sep/2006:21:52:53 -0400] "GET /wang-center/schedules/wang.html HTTP/1.1" 200 1438 "-" "Mozilla/5.0 (X11; Linux i686; en-US; rv:1.0rc5; OBJR)"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163.139.58.174 - - [23/Sep/2006:21:54:29 -0400] "GET /sd/ HTTP/1.1" 304 - "-" "Mozilla/4.0 (compatible; MSIE 6.0; Windows NT 5.1; .NET CLR 1.0.3705)"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205.188.209.51 - - [23/Sep/2006:21:57:23 -0400] "GET / HTTP/1.0" 200 1729 "http://aolsearch.aol.com/dirsearch.adp?query=Gildea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se Study: Web Browsing Activ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68360" y="2276280"/>
            <a:ext cx="8229600" cy="366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ahoma"/>
              </a:rPr>
              <a:t>216.128.130.126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ahoma"/>
              </a:rPr>
              <a:t>-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ahoma"/>
              </a:rPr>
              <a:t>-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ahoma"/>
              </a:rPr>
              <a:t>[23/Sep/2006:21:30:02 -0400]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Tahoma"/>
              </a:rPr>
              <a:t>"GET /pgp/ HTTP/1.0"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ahoma"/>
              </a:rPr>
              <a:t>200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ahoma"/>
              </a:rPr>
              <a:t>1871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ahoma"/>
              </a:rPr>
              <a:t>"http://dir.yahoo.com/Computers_and_Internet/Security_and_Encryption/PGP___Pretty_Good_Privacy/"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ahoma"/>
              </a:rPr>
              <a:t>"Mozilla/4.0 (compatible; MSIE 6.0 [en] Win NT 5.1; U)”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24T06:40:18Z</dcterms:created>
  <dc:creator>alexander</dc:creator>
  <dc:description/>
  <dc:language>en-US</dc:language>
  <cp:lastModifiedBy>Dave O'Reilly</cp:lastModifiedBy>
  <cp:lastPrinted>2016-05-18T07:38:13Z</cp:lastPrinted>
  <dcterms:modified xsi:type="dcterms:W3CDTF">2017-09-01T13:07:29Z</dcterms:modified>
  <cp:revision>286</cp:revision>
  <dc:subject/>
  <dc:title>PowerPoint Presentation</dc:title>
</cp:coreProperties>
</file>